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707A-B7DA-4881-97A3-7A24A6E3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634-6A28-4DEF-82DA-974BFCF5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5D4-115B-47C4-85B7-C008DC48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CB6F-B7CC-4BA7-9049-23910D42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585-A4B0-48B5-A044-45815EE5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30E-E527-49B8-99B6-BA293508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933-4083-49EB-9F54-0F045838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BCB-7AA9-4284-886E-B724878D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86E-8F5C-4F12-8CE7-CC521221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CE4-3B35-4617-863F-61A3D7C5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D6B-30EF-4DCB-9017-EC24DFD4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47B-49CB-4273-BA1D-08182A04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F2F7-B9DF-4E27-90C3-4C9AEB680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nner"/>
              </a:rPr>
              <a:t>Nonlinguistic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h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dents’ ability to represent and elaborate on knowledge using mental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s, pictures, graphic organizers, kinesthetic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281400" cy="4419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43200" y="5638680"/>
            <a:ext cx="61722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4:37:51Z</dcterms:created>
  <dc:creator>workstation</dc:creator>
  <dc:description/>
  <dc:language>en-US</dc:language>
  <cp:lastModifiedBy>workstation</cp:lastModifiedBy>
  <dcterms:modified xsi:type="dcterms:W3CDTF">2010-08-03T14:52:33Z</dcterms:modified>
  <cp:revision>2</cp:revision>
  <dc:subject/>
  <dc:title>Nonlinguistic Representation</dc:title>
</cp:coreProperties>
</file>